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7.png" ContentType="image/png"/>
  <Override PartName="/ppt/media/image1.jpeg" ContentType="image/jpeg"/>
  <Override PartName="/ppt/media/image11.jpeg" ContentType="image/jpeg"/>
  <Override PartName="/ppt/media/image9.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9CF30-35C4-46DD-BFA4-E01BE95C9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FD4E7-6519-430F-A4E1-A593CC3CF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2039E-CE03-4D8D-B38E-D596F1500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91D1A-00D2-41EA-B0FA-998666954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2E779-A1B8-4AF9-BC3F-CEE1EE0EA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53A86-8764-413D-922B-9B8028C6C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510D4-AAAD-4AC8-8CB9-73988C36C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9DA28-D537-4276-8BEA-49A84C950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6A265-825A-4FE3-97D5-E4B108890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9A7E6-6FC6-4125-A59F-CE7813308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21713-5DB7-401D-958C-571D5ABFC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0E1B6-C0E2-4DA8-9B2E-6FDB74F15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0CCE-E65C-4D8B-B767-2CC05E5996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llenging Segreg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1950s: The United St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e200"/>
            </a:gs>
            <a:gs pos="100000">
              <a:srgbClr val="6b6800"/>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sis at Little Rock</a:t>
            </a:r>
            <a:endParaRPr b="0" lang="en-US" sz="4000" spc="-1" strike="noStrike">
              <a:solidFill>
                <a:srgbClr val="000000"/>
              </a:solidFill>
              <a:latin typeface="Arial"/>
            </a:endParaRPr>
          </a:p>
        </p:txBody>
      </p:sp>
      <p:sp>
        <p:nvSpPr>
          <p:cNvPr id="58" name="PlaceHolder 2"/>
          <p:cNvSpPr>
            <a:spLocks noGrp="1"/>
          </p:cNvSpPr>
          <p:nvPr>
            <p:ph/>
          </p:nvPr>
        </p:nvSpPr>
        <p:spPr>
          <a:xfrm>
            <a:off x="685800" y="1523880"/>
            <a:ext cx="7772400" cy="7391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Rock was located in Arkans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ays after the Brown decision, the Little Rock school board announced its willingness to obey the la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board superintendant worked out plan to put 9 African American students into Central High School with 2,000 white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Sept. 2, 1957, Orval Faubus (Arkansas governor) appeared on statewide television announcing soldiers from the states National Guard would surround Central High School the next mor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28600" y="0"/>
            <a:ext cx="8763120" cy="68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6ff08"/>
            </a:gs>
            <a:gs pos="100000">
              <a:srgbClr val="33339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Section 2</a:t>
            </a:r>
            <a:endParaRPr b="0" lang="en-US" sz="9600" spc="-1" strike="noStrike">
              <a:solidFill>
                <a:srgbClr val="000000"/>
              </a:solidFill>
              <a:latin typeface="Arial"/>
            </a:endParaRPr>
          </a:p>
        </p:txBody>
      </p:sp>
      <p:sp>
        <p:nvSpPr>
          <p:cNvPr id="61" name="PlaceHolder 2"/>
          <p:cNvSpPr>
            <a:spLocks noGrp="1"/>
          </p:cNvSpPr>
          <p:nvPr>
            <p:ph type="subTitle"/>
          </p:nvPr>
        </p:nvSpPr>
        <p:spPr>
          <a:xfrm>
            <a:off x="1371600" y="255276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reedom No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800"/>
            </a:gs>
            <a:gs pos="100000">
              <a:srgbClr val="e9e200"/>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us Boycott</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a Park’s Decision not to give up her seat created a series of even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referred to this as “the true beginning of civil rights movement” (of 50-60’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ws of Park’s arrest spred through Montgomery's African American communities </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57200" y="0"/>
            <a:ext cx="8229600" cy="68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09f1"/>
            </a:gs>
            <a:gs pos="100000">
              <a:srgbClr val="74046f"/>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ycott Begins</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ly the call went out to boycott Montgomery the bus system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cott- an organized agreement not to buy or use certain product</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 Ann Robinson wrote 35,000 leaflets that said “Don’t ride the buses to work, to town, to school, or anywhere on Monday.”</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Martin Luther King Jr. Announced the boycott during his Saturday morning services</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uccessful Strategy</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day the buses rolled through Montgomery nearly empty</a:t>
            </a:r>
            <a:endParaRPr b="0" lang="en-US" sz="32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a was fined $10 and $4 in court charges</a:t>
            </a:r>
            <a:endParaRPr b="0" lang="en-US" sz="32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 of the 52,000 bus customers, 40,000 were African American</a:t>
            </a:r>
            <a:endParaRPr b="0" lang="en-US" sz="32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than 12,000 people rode the buses Monday</a:t>
            </a:r>
            <a:endParaRPr b="0" lang="en-US" sz="32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s boycott lasted nearly 400 d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0000"/>
            </a:gs>
            <a:gs pos="50000">
              <a:srgbClr val="ff0000"/>
            </a:gs>
            <a:gs pos="100000">
              <a:srgbClr val="750000"/>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 </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taxi company owners charged African Americans 10 cents to ride (cost of bus ticke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ity threatened to shut them down if they didn’t charge 45 cent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cott leaders then began to create car pool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rs were called “rolling churches” </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gs house was raided and King along with 88 other men were arrested and fined </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75"/>
            </a:gs>
            <a:gs pos="50000">
              <a:srgbClr val="00ffff"/>
            </a:gs>
            <a:gs pos="100000">
              <a:srgbClr val="007575"/>
            </a:gs>
          </a:gsLst>
          <a:lin ang="108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 of the boycott came when State supreme court ruled it to be unconstitutio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riders sat as they pleased from now 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eation of SCLC</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1957, King Called 60 Atlanta ministers to discuss nonviolent integ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on after King assumed the presidency of the Southern Christian Leadership Con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603"/>
            </a:gs>
            <a:gs pos="100000">
              <a:srgbClr val="750201"/>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egregation System</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way they were separated was that the schools were carefully drawn so that they included only black neighborhoods or only white o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ggest issue between segregationists and integrationists was public educ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early 1950s, 17 states prohibited African American and white children from attending their school together.</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violence</a:t>
            </a: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 encouraged his followers to use Nonviolent Resistanc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violent Resistance-Should not fight with authoriti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Fellowship of Reconciliation founded in 1914</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59 King traveled to India to talk to some of Gandhi's followers</a:t>
            </a: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2f"/>
            </a:gs>
            <a:gs pos="100000">
              <a:srgbClr val="000066"/>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inued</a:t>
            </a: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ndhian strategy Investigation, Negotiation, publicity, and demonstra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 to victory in Montgomer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and other African Americans began not violent sittin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1700"/>
            </a:gs>
            <a:gs pos="100000">
              <a:srgbClr val="0033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t-ins Spread</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pril 1960, college + high school students in 78 communities had staged sit-ins</a:t>
            </a:r>
            <a:endParaRPr b="0" lang="en-US" sz="3200" spc="-1" strike="noStrike">
              <a:solidFill>
                <a:srgbClr val="000000"/>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0 protesters had been arrested</a:t>
            </a:r>
            <a:endParaRPr b="0" lang="en-US" sz="3200" spc="-1" strike="noStrike">
              <a:solidFill>
                <a:srgbClr val="000000"/>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year later those numbers almost doubled</a:t>
            </a:r>
            <a:endParaRPr b="0" lang="en-US" sz="3200" spc="-1" strike="noStrike">
              <a:solidFill>
                <a:srgbClr val="000000"/>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eptember 1961, 70,000 African American and white students were sitting for social change </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targets of the sit-ins were Southern stores that were part of national cha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ee-ins were soon introduc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ong with read-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d-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eep-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2f002f"/>
            </a:gs>
            <a:gs pos="100000">
              <a:srgbClr val="660066"/>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reation of SNCC</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la J. Baker, secretary of kings SCLC, She invented 100 student leaders of the sit-ins to a conference at Shaw university</a:t>
            </a:r>
            <a:endParaRPr b="0" lang="en-US" sz="3200" spc="-1" strike="noStrike">
              <a:solidFill>
                <a:srgbClr val="000000"/>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her surprise 300 students showed up</a:t>
            </a:r>
            <a:endParaRPr b="0" lang="en-US" sz="3200" spc="-1" strike="noStrike">
              <a:solidFill>
                <a:srgbClr val="000000"/>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eting created the SNCC</a:t>
            </a:r>
            <a:endParaRPr b="0" lang="en-US" sz="3200" spc="-1" strike="noStrike">
              <a:solidFill>
                <a:srgbClr val="000000"/>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adressed the students, he stressed the nonviolent moral</a:t>
            </a:r>
            <a:endParaRPr b="0" lang="en-US" sz="3200" spc="-1" strike="noStrike">
              <a:solidFill>
                <a:srgbClr val="000000"/>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Jail not Bail</a:t>
            </a:r>
            <a:endParaRPr b="0" lang="en-US" sz="3200" spc="-1" strike="noStrike">
              <a:solidFill>
                <a:srgbClr val="000000"/>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914400" y="0"/>
            <a:ext cx="7238880" cy="6781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80880" y="0"/>
            <a:ext cx="80773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NCC followed the American traditon of civil disobed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Disobedience- Nonviolent resistance of unfair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in a year SNCC evolved top a Full-time commit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750000"/>
            </a:gs>
            <a:gs pos="100000">
              <a:srgbClr val="ff0000"/>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a:t>
            </a:r>
            <a:endParaRPr b="0" lang="en-US" sz="4400" spc="-1" strike="noStrike">
              <a:solidFill>
                <a:srgbClr val="000000"/>
              </a:solidFill>
              <a:latin typeface="Arial"/>
            </a:endParaRPr>
          </a:p>
        </p:txBody>
      </p:sp>
      <p:sp>
        <p:nvSpPr>
          <p:cNvPr id="92" name="PlaceHolder 2"/>
          <p:cNvSpPr>
            <a:spLocks noGrp="1"/>
          </p:cNvSpPr>
          <p:nvPr>
            <p:ph type="subTitle"/>
          </p:nvPr>
        </p:nvSpPr>
        <p:spPr>
          <a:xfrm>
            <a:off x="1549440" y="4059000"/>
            <a:ext cx="6045120" cy="1593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Respo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75"/>
            </a:gs>
            <a:gs pos="100000">
              <a:srgbClr val="00ffff"/>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FK and Civil Rights</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a riot in Alabama and President Kennedy along with his brother sent out federal marshals to keep order in Alaba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nedy needed the votes of the segregationists in the South and the African Americans in the North</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143000" y="0"/>
            <a:ext cx="693432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66ff33"/>
            </a:gs>
            <a:gs pos="100000">
              <a:srgbClr val="00ffff"/>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nedy’s Civil Rights Strategy</a:t>
            </a:r>
            <a:endParaRPr b="0" lang="en-US" sz="4400" spc="-1" strike="noStrike">
              <a:solidFill>
                <a:srgbClr val="000000"/>
              </a:solidFill>
              <a:latin typeface="Arial"/>
            </a:endParaRPr>
          </a:p>
        </p:txBody>
      </p:sp>
      <p:sp>
        <p:nvSpPr>
          <p:cNvPr id="9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id not back the promised civil rights bill that was going to make Southern school districts desegregated in 1963.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reated a committee that was charged with ending job discrimination in federal government departments  and businesses that contracted with the federal gover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ranchisement – Obtaining the rights of citizen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nedy’s civil rights strategy (cont.)</a:t>
            </a:r>
            <a:endParaRPr b="0" lang="en-US" sz="4400" spc="-1" strike="noStrike">
              <a:solidFill>
                <a:srgbClr val="000000"/>
              </a:solidFill>
              <a:latin typeface="Arial"/>
            </a:endParaRPr>
          </a:p>
        </p:txBody>
      </p:sp>
      <p:sp>
        <p:nvSpPr>
          <p:cNvPr id="99" name=""/>
          <p:cNvSpPr txBox="1"/>
          <p:nvPr/>
        </p:nvSpPr>
        <p:spPr>
          <a:xfrm>
            <a:off x="228240" y="1905120"/>
            <a:ext cx="838188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headed by V.P. Johnson and he chose to rely only on voluntary efforts instead of cancelling contracts. It accomplished little during Kennedy’s te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vil rights act passed in 1957 and 1960 gave the attorney general the power to sue in federal courts on behalf of African Americans being denied the right to vo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edom Riders</a:t>
            </a:r>
            <a:endParaRPr b="0" lang="en-US" sz="4400" spc="-1" strike="noStrike">
              <a:solidFill>
                <a:srgbClr val="000000"/>
              </a:solidFill>
              <a:latin typeface="Arial"/>
            </a:endParaRPr>
          </a:p>
        </p:txBody>
      </p:sp>
      <p:sp>
        <p:nvSpPr>
          <p:cNvPr id="10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purpose was to test the supreme Court decision of having all bus stations and terminals integra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4, 1961 – the first busload of 13 CORE volunteers went from the Washington D.C. bus station to New Orleans. They got off the bus and went into a whites only room to test the new r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torney general petitioned the ICC to issue a ruling against segregation of interstate facilities and was announced by the ICC on Sept. 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8915400" cy="6807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cc0000"/>
            </a:gs>
            <a:gs pos="100000">
              <a:srgbClr val="ffff00"/>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oter Education Project</a:t>
            </a:r>
            <a:endParaRPr b="0" lang="en-US" sz="4400" spc="-1" strike="noStrike">
              <a:solidFill>
                <a:srgbClr val="000000"/>
              </a:solidFill>
              <a:latin typeface="Arial"/>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CC – a group to increase African American reg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1961- Kennedy called for a meeting of representatives of SCLC, SNCC, CORE and NAACP. Result was voter education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cil of Federated Organization carried out voter registration  in Mississipp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 30, 1962 – Pres. Kennedy had to send U.S. army to enforce a court order to enroll James Meredith in the University of Mississipp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66ff"/>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monstrations</a:t>
            </a:r>
            <a:endParaRPr b="0" lang="en-US" sz="4400" spc="-1" strike="noStrike">
              <a:solidFill>
                <a:srgbClr val="000000"/>
              </a:solidFill>
              <a:latin typeface="Arial"/>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1, 1963 – Kennedy federalized the Alabama National guard to enforce a court order to admit two African American students to the University of Alaba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that night, a white sniper killed Medgar Evers, head of the state NAAC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inued</a:t>
            </a:r>
            <a:r>
              <a:rPr b="0" lang="en-US" sz="4400" spc="-1" strike="noStrike">
                <a:solidFill>
                  <a:srgbClr val="000000"/>
                </a:solidFill>
                <a:latin typeface="Times New Roman"/>
              </a:rPr>
              <a:t>…</a:t>
            </a: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in 1950 three Supreme Court decisions on a single day gave a new direction to those who were fighting for civil rights, the rights of all citize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il road cars operating in the South now had to provide equal service to all travelers, regardless of ra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ican Americans now could not be segregated within a school attended by whit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tangible factors,” not just buildings or books, had to be considered when comparing the education provided for African Americans and whi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rch on Washington</a:t>
            </a:r>
            <a:endParaRPr b="0" lang="en-US" sz="4400" spc="-1" strike="noStrike">
              <a:solidFill>
                <a:srgbClr val="000000"/>
              </a:solidFill>
              <a:latin typeface="Arial"/>
            </a:endParaRPr>
          </a:p>
        </p:txBody>
      </p:sp>
      <p:sp>
        <p:nvSpPr>
          <p:cNvPr id="109" name=""/>
          <p:cNvSpPr txBox="1"/>
          <p:nvPr/>
        </p:nvSpPr>
        <p:spPr>
          <a:xfrm>
            <a:off x="609480" y="1676520"/>
            <a:ext cx="7772400" cy="411480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28, 1963 – massive protest on the nation’s capital. It started out as a cry for jobs but grew to embrace the entire civil rights movement</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s and buses brought in thousands of demonstrators from across the country</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highlights – Mahalia Jackson’s singing of the “I Been ‘Buked and I been Scorned” and King’s “I have a dream” speech</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22, 1963 – Lydon B. Johnson became Presi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ffff00"/>
            </a:gs>
            <a:gs pos="100000">
              <a:srgbClr val="66ff33"/>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BJ Carries On</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overcame some liberal doubts by passing Kennedy’s civil rights bill. It was passed by The House in 1964 but the Senate did not want it to p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ibuster – The tactic of making extended speeches to delay a vote on a piece of legisl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I of the 1964 Civil Rights Act forbade segregation in hotels, motels, restaurants, lunch counters, theaters, and sporting arena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a50021"/>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test in Selma</a:t>
            </a:r>
            <a:endParaRPr b="0" lang="en-US" sz="4400" spc="-1" strike="noStrike">
              <a:solidFill>
                <a:srgbClr val="000000"/>
              </a:solidFill>
              <a:latin typeface="Arial"/>
            </a:endParaRPr>
          </a:p>
        </p:txBody>
      </p:sp>
      <p:sp>
        <p:nvSpPr>
          <p:cNvPr id="11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start of King’s campaign, only 383 African American citizens out of 15,000 were registered</a:t>
            </a:r>
            <a:endParaRPr b="0" lang="en-US" sz="2800" spc="-1" strike="noStrike">
              <a:solidFill>
                <a:srgbClr val="000000"/>
              </a:solidFill>
              <a:latin typeface="Arial"/>
            </a:endParaRPr>
          </a:p>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7, 1965 – Williams and Lewis led 600 demonstrators onto the Edmund Pettus Bridge outside of Selma on the way to Montgomery. </a:t>
            </a:r>
            <a:endParaRPr b="0" lang="en-US" sz="2800" spc="-1" strike="noStrike">
              <a:solidFill>
                <a:srgbClr val="000000"/>
              </a:solidFill>
              <a:latin typeface="Arial"/>
            </a:endParaRPr>
          </a:p>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15, 1965 – Johnson promised to send a bill to Congress to give African Americans the right to vote</a:t>
            </a:r>
            <a:endParaRPr b="0" lang="en-US" sz="2800" spc="-1" strike="noStrike">
              <a:solidFill>
                <a:srgbClr val="000000"/>
              </a:solidFill>
              <a:latin typeface="Arial"/>
            </a:endParaRPr>
          </a:p>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21, 1965 – The march from Selma to Montgomery proceeded peacefully under the protection of the Alabama National Gu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2f7517"/>
            </a:gs>
            <a:gs pos="100000">
              <a:srgbClr val="66ff33"/>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oting Rights Act of 1965</a:t>
            </a: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40,000 African Americans registered to vote in the 3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elped to win elections for hundreds of African American officia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Section 4</a:t>
            </a:r>
            <a:endParaRPr b="0" lang="en-US" sz="9600" spc="-1" strike="noStrike">
              <a:solidFill>
                <a:srgbClr val="000000"/>
              </a:solidFill>
              <a:latin typeface="Arial"/>
            </a:endParaRPr>
          </a:p>
        </p:txBody>
      </p:sp>
      <p:sp>
        <p:nvSpPr>
          <p:cNvPr id="119" name="PlaceHolder 2"/>
          <p:cNvSpPr>
            <a:spLocks noGrp="1"/>
          </p:cNvSpPr>
          <p:nvPr>
            <p:ph type="subTitle"/>
          </p:nvPr>
        </p:nvSpPr>
        <p:spPr>
          <a:xfrm>
            <a:off x="1477440" y="2673000"/>
            <a:ext cx="6045480" cy="159372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isappointed Hop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Directions in Civil Rights</a:t>
            </a:r>
            <a:endParaRPr b="0" lang="en-US" sz="4400" spc="-1" strike="noStrike">
              <a:solidFill>
                <a:srgbClr val="000000"/>
              </a:solidFill>
              <a:latin typeface="Arial"/>
            </a:endParaRPr>
          </a:p>
        </p:txBody>
      </p:sp>
      <p:sp>
        <p:nvSpPr>
          <p:cNvPr id="12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nge in the direction in the SNCC had been in the making for awh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tyr- person who dies in the name of an important c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ck Separatism- the separation of the races in Amer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00"/>
            </a:gs>
            <a:gs pos="50000">
              <a:srgbClr val="003300"/>
            </a:gs>
            <a:gs pos="100000">
              <a:srgbClr val="0017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ck Pride</a:t>
            </a:r>
            <a:endParaRPr b="0" lang="en-US" sz="4400" spc="-1" strike="noStrike">
              <a:solidFill>
                <a:srgbClr val="000000"/>
              </a:solidFill>
              <a:latin typeface="Arial"/>
            </a:endParaRPr>
          </a:p>
        </p:txBody>
      </p:sp>
      <p:sp>
        <p:nvSpPr>
          <p:cNvPr id="123"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uccess of the civil rights movement in the early 1960’s gave rise to black pri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 Pride- Pride in being African Americ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1960’s progressed many African Americans began to wear the natural “afr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ro and Colored were thrown out and adopted black witch was a nou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4" descr="black pride"/>
          <p:cNvPicPr/>
          <p:nvPr/>
        </p:nvPicPr>
        <p:blipFill>
          <a:blip r:embed="rId1"/>
          <a:stretch/>
        </p:blipFill>
        <p:spPr>
          <a:xfrm>
            <a:off x="1828800" y="609480"/>
            <a:ext cx="5408640" cy="602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Challenge of the Courts</a:t>
            </a:r>
            <a:endParaRPr b="0" lang="en-US" sz="40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World War II, NAACP initiated a series of court cases that chipped away at the </a:t>
            </a:r>
            <a:r>
              <a:rPr b="0" i="1" lang="en-US" sz="2800" spc="-1" strike="noStrike">
                <a:solidFill>
                  <a:srgbClr val="000000"/>
                </a:solidFill>
                <a:latin typeface="Times New Roman"/>
              </a:rPr>
              <a:t>Plessy </a:t>
            </a:r>
            <a:r>
              <a:rPr b="0" lang="en-US" sz="2800" spc="-1" strike="noStrike">
                <a:solidFill>
                  <a:srgbClr val="000000"/>
                </a:solidFill>
                <a:latin typeface="Times New Roman"/>
              </a:rPr>
              <a:t>ru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ief legal counsel for the NAACP at this time was Charles Houston and assisted by Thurgood Marshall, who later became the first African American justice on the Supreme Cour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reme Court case that helped overturn school segregation did not originate in the South at all. The case was called </a:t>
            </a:r>
            <a:r>
              <a:rPr b="0" i="1" lang="en-US" sz="2800" spc="-1" strike="noStrike">
                <a:solidFill>
                  <a:srgbClr val="000000"/>
                </a:solidFill>
                <a:latin typeface="Times New Roman"/>
              </a:rPr>
              <a:t>Brown</a:t>
            </a:r>
            <a:r>
              <a:rPr b="0" lang="en-US" sz="2800" spc="-1" strike="noStrike">
                <a:solidFill>
                  <a:srgbClr val="000000"/>
                </a:solidFill>
                <a:latin typeface="Times New Roman"/>
              </a:rPr>
              <a:t> v. </a:t>
            </a:r>
            <a:r>
              <a:rPr b="0" i="1" lang="en-US" sz="2800" spc="-1" strike="noStrike">
                <a:solidFill>
                  <a:srgbClr val="000000"/>
                </a:solidFill>
                <a:latin typeface="Times New Roman"/>
              </a:rPr>
              <a:t>the Board of Education of Topeka, Kans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000000"/>
            </a:gs>
            <a:gs pos="100000">
              <a:srgbClr val="cc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lcolm X + Black Separatism</a:t>
            </a:r>
            <a:endParaRPr b="0" lang="en-US" sz="4400" spc="-1" strike="noStrike">
              <a:solidFill>
                <a:srgbClr val="000000"/>
              </a:solidFill>
              <a:latin typeface="Arial"/>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ing African American pride was one factor in the move toward Black Separatism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vocal Black Muslim was Malcolm X</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colm X preached a message that included religious justification for black separatism</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February 21, 1965, three members of the Nation of Islam assassinated Malcolm X as he spoke in Har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Picture 4" descr="Malcolm-X"/>
          <p:cNvPicPr/>
          <p:nvPr/>
        </p:nvPicPr>
        <p:blipFill>
          <a:blip r:embed="rId1"/>
          <a:stretch/>
        </p:blipFill>
        <p:spPr>
          <a:xfrm>
            <a:off x="304920" y="22320"/>
            <a:ext cx="8381880" cy="6835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ffff00"/>
            </a:gs>
            <a:gs pos="100000">
              <a:srgbClr val="cc00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NCC’s New Leadership</a:t>
            </a:r>
            <a:endParaRPr b="0" lang="en-US" sz="4400" spc="-1" strike="noStrike">
              <a:solidFill>
                <a:srgbClr val="000000"/>
              </a:solidFill>
              <a:latin typeface="Arial"/>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hetoric of Malcolm X lived on long after his death and influenced SNCC members + other young milit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al turnaround in the SNCC’s orientation was in 1966 with the election of Stokely Carmicha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ck Power- Political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4" descr="carmichael"/>
          <p:cNvPicPr/>
          <p:nvPr/>
        </p:nvPicPr>
        <p:blipFill>
          <a:blip r:embed="rId1"/>
          <a:stretch/>
        </p:blipFill>
        <p:spPr>
          <a:xfrm>
            <a:off x="152280" y="9360"/>
            <a:ext cx="8763120" cy="6848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ng Hot Summer</a:t>
            </a:r>
            <a:endParaRPr b="0" lang="en-US" sz="4400" spc="-1" strike="noStrike">
              <a:solidFill>
                <a:srgbClr val="000000"/>
              </a:solidFill>
              <a:latin typeface="Arial"/>
            </a:endParaRPr>
          </a:p>
        </p:txBody>
      </p:sp>
      <p:sp>
        <p:nvSpPr>
          <p:cNvPr id="132"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gration of the Northern cities that began in the 1960s had by 1965 resulted in the relocation of some 3 million Southern African American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2/3 of the African American population were urban dweller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these, more than half were concentrated in just in 12 c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660033"/>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ts, First of a Series</a:t>
            </a:r>
            <a:endParaRPr b="0" lang="en-US" sz="4400" spc="-1" strike="noStrike">
              <a:solidFill>
                <a:srgbClr val="000000"/>
              </a:solidFill>
              <a:latin typeface="Arial"/>
            </a:endParaRPr>
          </a:p>
        </p:txBody>
      </p:sp>
      <p:sp>
        <p:nvSpPr>
          <p:cNvPr id="134" name=""/>
          <p:cNvSpPr txBox="1"/>
          <p:nvPr/>
        </p:nvSpPr>
        <p:spPr>
          <a:xfrm>
            <a:off x="685800" y="1981080"/>
            <a:ext cx="7772400" cy="4114800"/>
          </a:xfrm>
          <a:prstGeom prst="rect">
            <a:avLst/>
          </a:prstGeom>
          <a:noFill/>
          <a:ln w="0">
            <a:noFill/>
          </a:ln>
        </p:spPr>
        <p:txBody>
          <a:bodyPr anchor="t">
            <a:normAutofit fontScale="93000"/>
          </a:bodyPr>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imple arrest in Watts on August 11, 1965 exploded into a major riot that lasted 6days</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fore it ended 34 people were dead, 1,072 were injured, and 4,000 had been arrested</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perty loss was at nearly $40 million</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umbers of men, women, and children in theses riots were huge</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0,000 rioters in watts, while another 60,000 milled about in the streets</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000 arrest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Why</a:t>
            </a:r>
            <a:endParaRPr b="0" lang="en-US" sz="4400" spc="-1" strike="noStrike">
              <a:solidFill>
                <a:srgbClr val="000000"/>
              </a:solidFill>
              <a:latin typeface="Arial"/>
            </a:endParaRPr>
          </a:p>
        </p:txBody>
      </p:sp>
      <p:sp>
        <p:nvSpPr>
          <p:cNvPr id="136" name=""/>
          <p:cNvSpPr txBox="1"/>
          <p:nvPr/>
        </p:nvSpPr>
        <p:spPr>
          <a:xfrm>
            <a:off x="685800" y="190512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first 9 months of 1967 150 cities in the U.S. reported incidents of racial disorder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sident Johnson appointed a National Advisory Commission on Civil Disorder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eport cited three triggers for the racial violence: Frustrated hope of African Americans; the approval and encouragement of violence, both by white terrorists and by some African Americans protest groups; and the sense many African Americans had of being powerless in a society dominated by whi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4" descr="lbj"/>
          <p:cNvPicPr/>
          <p:nvPr/>
        </p:nvPicPr>
        <p:blipFill>
          <a:blip r:embed="rId1"/>
          <a:stretch/>
        </p:blipFill>
        <p:spPr>
          <a:xfrm>
            <a:off x="1635120" y="0"/>
            <a:ext cx="5661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More Assassination</a:t>
            </a:r>
            <a:endParaRPr b="0" lang="en-US" sz="4400" spc="-1" strike="noStrike">
              <a:solidFill>
                <a:srgbClr val="000000"/>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rner Report didn’t end the race riot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more out burst in 130 ghettos following the April 4, 1968, Death of Dr. Martin Luther King Jr., at the hands of a white assassi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67 he began to make speeches denouncing the war</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4" descr="king"/>
          <p:cNvPicPr/>
          <p:nvPr/>
        </p:nvPicPr>
        <p:blipFill>
          <a:blip r:embed="rId1"/>
          <a:stretch/>
        </p:blipFill>
        <p:spPr>
          <a:xfrm>
            <a:off x="228600" y="533520"/>
            <a:ext cx="8763120" cy="596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0df3"/>
            </a:gs>
            <a:gs pos="50000">
              <a:srgbClr val="680570"/>
            </a:gs>
            <a:gs pos="100000">
              <a:srgbClr val="e20df3"/>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ance to </a:t>
            </a:r>
            <a:r>
              <a:rPr b="0" i="1" lang="en-US" sz="4000" spc="-1" strike="noStrike">
                <a:solidFill>
                  <a:srgbClr val="000000"/>
                </a:solidFill>
                <a:latin typeface="Arial"/>
              </a:rPr>
              <a:t>Brown</a:t>
            </a:r>
            <a:endParaRPr b="0" lang="en-US" sz="4000" spc="-1" strike="noStrike">
              <a:solidFill>
                <a:srgbClr val="000000"/>
              </a:solidFill>
              <a:latin typeface="Arial"/>
            </a:endParaRPr>
          </a:p>
        </p:txBody>
      </p:sp>
      <p:sp>
        <p:nvSpPr>
          <p:cNvPr id="51"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Supreme Court declared that school segregation was illegal, they said nothing about how integration was to be carried o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gue ruling, announced that integration should take place “with all deliberate speed” and “at the earliest possible d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chool districts took steps to comply with the ruling while others mostly in the South, devised plans to resist the decis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0000"/>
            </a:gs>
            <a:gs pos="100000">
              <a:srgbClr val="660066"/>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Movement Appraised</a:t>
            </a: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out the leadership in the years after Kings death, the Civil Rights Movement floundered</a:t>
            </a:r>
            <a:endParaRPr b="0" lang="en-US" sz="32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4 years between the Supreme Court’s momentous Brown decision and King’s death were years of great progress of the Thirteenth, Fourteenth, and Fifteenth Amendment during Reconstruction had great gain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4000" spc="-1" strike="noStrike">
                <a:solidFill>
                  <a:srgbClr val="000000"/>
                </a:solidFill>
                <a:latin typeface="Arial"/>
              </a:rPr>
              <a:t>Educational HORSE rules</a:t>
            </a: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w to pl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oth you and your partner try to answer the question faster then the other, and whoever gets it wrong gets a letter starting with H. This goes until whoever has the least amount of letters by the end of the activity, or until someone gets all the letters that spell out HORSE (which means you lose). The questions are based on information from the powerpoi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304920"/>
            <a:ext cx="777240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es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at did people do to keep segregation from becoming a problem in the 1950’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How many states prohibited African American and white children from attending school togeth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o initiated a series of court cases that chipped away at the </a:t>
            </a:r>
            <a:r>
              <a:rPr b="0" i="1" lang="en-US" sz="2000" spc="-1" strike="noStrike">
                <a:solidFill>
                  <a:srgbClr val="000000"/>
                </a:solidFill>
                <a:latin typeface="Arial"/>
              </a:rPr>
              <a:t>Plessy </a:t>
            </a:r>
            <a:r>
              <a:rPr b="0" lang="en-US" sz="2000" spc="-1" strike="noStrike">
                <a:solidFill>
                  <a:srgbClr val="000000"/>
                </a:solidFill>
                <a:latin typeface="Arial"/>
              </a:rPr>
              <a:t>ruling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fter Rosa Parks refused to give up her seat, what did she encoura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f the 52,000 people who normally rode the bus every day, about how many were African Americ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By September 1961, about how many African American and white students sat in for social chang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What was Civil Disobedienc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What gave rise to black prid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What forced President Kennedy to choose sides in the segregation strugg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What is enfranchiseme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What is a filibust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Where was Malcolm X assassinat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228600"/>
            <a:ext cx="9144000" cy="636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8"/>
            </a:gs>
            <a:gs pos="100000">
              <a:srgbClr val="753b03"/>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54"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d by parents, the white students refused to attend integrated schools in the southern distri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u Klux Klan reemerged, while other white Southerners joined the less militant White Citizens’ Counci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st amount of resistance came from those highest in office. Virginia’s governor, Thomas Stanley, declared he was going to try and continue to have segregated sch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56" name="PlaceHolder 2"/>
          <p:cNvSpPr>
            <a:spLocks noGrp="1"/>
          </p:cNvSpPr>
          <p:nvPr>
            <p:ph/>
          </p:nvPr>
        </p:nvSpPr>
        <p:spPr>
          <a:xfrm>
            <a:off x="609480" y="137124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state legislatures passed more than 450 laws and resolutions aimed at preventing enforcement of the </a:t>
            </a:r>
            <a:r>
              <a:rPr b="0" i="1" lang="en-US" sz="2800" spc="-1" strike="noStrike">
                <a:solidFill>
                  <a:srgbClr val="000000"/>
                </a:solidFill>
                <a:latin typeface="Arial"/>
              </a:rPr>
              <a:t>Brown</a:t>
            </a:r>
            <a:r>
              <a:rPr b="0" lang="en-US" sz="2800" spc="-1" strike="noStrike">
                <a:solidFill>
                  <a:srgbClr val="000000"/>
                </a:solidFill>
                <a:latin typeface="Arial"/>
              </a:rPr>
              <a:t> deci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Manifesto  praised“ the motives of those states which have declared their intervention to resist forced integration by any lawful me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three Southern representatives who refused to sign was Lyndon B. Johnson of Tex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3T04:30:53Z</dcterms:created>
  <dc:creator>Thomas Polito</dc:creator>
  <dc:description/>
  <dc:language>en-US</dc:language>
  <cp:lastModifiedBy>ASD</cp:lastModifiedBy>
  <dcterms:modified xsi:type="dcterms:W3CDTF">2010-07-06T17:28:40Z</dcterms:modified>
  <cp:revision>8</cp:revision>
  <dc:subject/>
  <dc:title>Challenging Segregation</dc:title>
</cp:coreProperties>
</file>